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172"/>
                </a:solidFill>
                <a:latin typeface="Arial Narrow"/>
              </a:rPr>
              <a:t>Click to move the slide</a:t>
            </a: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11D4-EC12-4DF9-918D-63943BB671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45CC-4342-47DA-B13F-13F398A05F6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B095-0646-4A28-BB47-D555834B9E7C}" type="slidenum">
              <a:rPr b="0" lang="es-MX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B710-50F1-44D9-B5D1-F917DDF0E0CB}" type="slidenum">
              <a:rPr b="0" lang="es-MX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2C78-F402-4506-908F-B572CBB53C36}" type="slidenum">
              <a:rPr b="0" lang="es-MX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54FD-FCF9-460F-83DC-DFF4B72655F2}" type="slidenum">
              <a:rPr b="0" lang="es-MX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0A38-FC0C-40EB-96D4-57A4E9A75D09}" type="slidenum">
              <a:rPr b="0" lang="es-MX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5298-0F29-4639-A314-70D2B85C36C7}" type="slidenum">
              <a:rPr b="0" lang="es-MX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5A24-6C0D-492A-AAB3-400011126B88}" type="slidenum">
              <a:rPr b="0" lang="es-MX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FF61-8E3F-461E-AAC1-6517420B0307}" type="slidenum">
              <a:rPr b="0" lang="es-MX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0A81-3F27-4DC8-A414-E9FD4B578AD5}" type="slidenum">
              <a:rPr b="0" lang="es-MX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BA58-3650-43C6-94F5-48862E25C03C}" type="slidenum">
              <a:rPr b="0" lang="es-MX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AC0A-1437-4AD6-ABAE-52B61D8EFD51}" type="slidenum">
              <a:rPr b="0" lang="es-MX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A9A5-6F94-4E68-90D1-9BD32630EB83}" type="slidenum">
              <a:rPr b="0" lang="es-MX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0FDD-3F5F-4EA2-A09B-76C12274C922}" type="slidenum">
              <a:rPr b="0" lang="es-MX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4A15-A321-46CF-B063-1C2EB9C61001}" type="slidenum">
              <a:rPr b="0" lang="es-MX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678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678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4059360"/>
            <a:ext cx="83678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678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834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40834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4059360"/>
            <a:ext cx="40834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840" y="4059360"/>
            <a:ext cx="40834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678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4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0120" y="1599840"/>
            <a:ext cx="2694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9720" y="1599840"/>
            <a:ext cx="2694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4059360"/>
            <a:ext cx="2694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0120" y="4059360"/>
            <a:ext cx="2694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9720" y="4059360"/>
            <a:ext cx="2694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678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6784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678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678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678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83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4083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678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33000"/>
            <a:ext cx="836784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678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834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4083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4059360"/>
            <a:ext cx="40834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678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6784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678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83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40834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840" y="4059360"/>
            <a:ext cx="40834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678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834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40834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059360"/>
            <a:ext cx="83678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678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678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4059360"/>
            <a:ext cx="83678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678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834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40834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4059360"/>
            <a:ext cx="40834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840" y="4059360"/>
            <a:ext cx="40834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678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4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0120" y="1599840"/>
            <a:ext cx="2694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39720" y="1599840"/>
            <a:ext cx="2694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4059360"/>
            <a:ext cx="2694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0120" y="4059360"/>
            <a:ext cx="2694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39720" y="4059360"/>
            <a:ext cx="2694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678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678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678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83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4083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678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33000"/>
            <a:ext cx="836784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678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834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4083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4059360"/>
            <a:ext cx="40834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678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83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40834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840" y="4059360"/>
            <a:ext cx="40834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678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834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840" y="1599840"/>
            <a:ext cx="40834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4059360"/>
            <a:ext cx="83678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24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678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172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678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517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517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517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649"/>
              </a:spcBef>
              <a:buClr>
                <a:srgbClr val="00517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981080" indent="-228600">
              <a:spcBef>
                <a:spcPts val="649"/>
              </a:spcBef>
              <a:buClr>
                <a:srgbClr val="00517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981080" indent="-22860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981080" indent="-22860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0"/>
            <a:ext cx="380880" cy="189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380880" y="0"/>
            <a:ext cx="2462400" cy="189000"/>
          </a:xfrm>
          <a:prstGeom prst="rect">
            <a:avLst/>
          </a:prstGeom>
          <a:solidFill>
            <a:srgbClr val="00a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2843280" y="0"/>
            <a:ext cx="6300720" cy="189000"/>
          </a:xfrm>
          <a:prstGeom prst="rect">
            <a:avLst/>
          </a:prstGeom>
          <a:solidFill>
            <a:srgbClr val="a1da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95280" y="6381720"/>
            <a:ext cx="83534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Consejo Regional de la RHO  | </a:t>
            </a:r>
            <a:r>
              <a:rPr b="1" lang="en-US" sz="1200" spc="-1" strike="noStrike">
                <a:solidFill>
                  <a:srgbClr val="005172"/>
                </a:solidFill>
                <a:latin typeface="Times New Roman"/>
                <a:ea typeface="Arial"/>
              </a:rPr>
              <a:t> Septiembre de 20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24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907920"/>
            <a:ext cx="179280" cy="1584360"/>
          </a:xfrm>
          <a:prstGeom prst="rect">
            <a:avLst/>
          </a:prstGeom>
          <a:solidFill>
            <a:srgbClr val="008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2050920" y="907920"/>
            <a:ext cx="73080" cy="1584360"/>
          </a:xfrm>
          <a:prstGeom prst="rect">
            <a:avLst/>
          </a:prstGeom>
          <a:solidFill>
            <a:srgbClr val="005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24000" y="907920"/>
            <a:ext cx="360360" cy="1584360"/>
          </a:xfrm>
          <a:prstGeom prst="rect">
            <a:avLst/>
          </a:prstGeom>
          <a:solidFill>
            <a:srgbClr val="a1da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11" descr="IPPF_Logo_NoStrap_spot"/>
          <p:cNvPicPr/>
          <p:nvPr/>
        </p:nvPicPr>
        <p:blipFill>
          <a:blip r:embed="rId2"/>
          <a:stretch/>
        </p:blipFill>
        <p:spPr>
          <a:xfrm>
            <a:off x="179280" y="189000"/>
            <a:ext cx="2160720" cy="630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2"/>
          <p:cNvSpPr/>
          <p:nvPr/>
        </p:nvSpPr>
        <p:spPr>
          <a:xfrm>
            <a:off x="2484360" y="0"/>
            <a:ext cx="665964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10800" bIns="118800" anchor="b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6246d"/>
                </a:solidFill>
                <a:latin typeface="Arial Narrow"/>
              </a:rPr>
              <a:t>From choice, a world of possib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1547640" y="907920"/>
            <a:ext cx="505080" cy="1584360"/>
          </a:xfrm>
          <a:prstGeom prst="rect">
            <a:avLst/>
          </a:prstGeom>
          <a:solidFill>
            <a:srgbClr val="00a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1187280" y="907920"/>
            <a:ext cx="360360" cy="1584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179280" y="907920"/>
            <a:ext cx="1008000" cy="1584360"/>
          </a:xfrm>
          <a:prstGeom prst="rect">
            <a:avLst/>
          </a:prstGeom>
          <a:solidFill>
            <a:srgbClr val="00a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2484360" y="2492280"/>
            <a:ext cx="6659640" cy="4365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678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172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678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517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517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517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649"/>
              </a:spcBef>
              <a:buClr>
                <a:srgbClr val="00517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981080" indent="-228600">
              <a:spcBef>
                <a:spcPts val="649"/>
              </a:spcBef>
              <a:buClr>
                <a:srgbClr val="00517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981080" indent="-22860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981080" indent="-22860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84360" y="980640"/>
            <a:ext cx="6292800" cy="1079640"/>
          </a:xfrm>
          <a:prstGeom prst="rect">
            <a:avLst/>
          </a:prstGeom>
          <a:noFill/>
          <a:ln w="0">
            <a:noFill/>
          </a:ln>
        </p:spPr>
        <p:txBody>
          <a:bodyPr lIns="144000" rIns="0" t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Clinic Management System project</a:t>
            </a:r>
            <a:br>
              <a:rPr sz="3200"/>
            </a:br>
            <a:endParaRPr b="1" lang="en-US" sz="32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5656320"/>
            <a:ext cx="2425680" cy="12016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Xavier González-Alons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IPPF Senior MIS Consult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24000" y="2924280"/>
            <a:ext cx="208728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Responding to IPPF clinic and global reporting nee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Houst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September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7 Grupo"/>
          <p:cNvGrpSpPr/>
          <p:nvPr/>
        </p:nvGrpSpPr>
        <p:grpSpPr>
          <a:xfrm>
            <a:off x="4498920" y="1673280"/>
            <a:ext cx="4199040" cy="571320"/>
            <a:chOff x="4498920" y="1673280"/>
            <a:chExt cx="4199040" cy="571320"/>
          </a:xfrm>
        </p:grpSpPr>
        <p:pic>
          <p:nvPicPr>
            <p:cNvPr id="100" name="5 Imagen" descr="OpenEMR logo.gif"/>
            <p:cNvPicPr/>
            <p:nvPr/>
          </p:nvPicPr>
          <p:blipFill>
            <a:blip r:embed="rId1"/>
            <a:stretch/>
          </p:blipFill>
          <p:spPr>
            <a:xfrm>
              <a:off x="6507000" y="1785960"/>
              <a:ext cx="219096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7 Imagen" descr="Nuevo Logo.tif"/>
            <p:cNvPicPr/>
            <p:nvPr/>
          </p:nvPicPr>
          <p:blipFill>
            <a:blip r:embed="rId2"/>
            <a:stretch/>
          </p:blipFill>
          <p:spPr>
            <a:xfrm>
              <a:off x="4498920" y="1673280"/>
              <a:ext cx="19717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11 Grupo"/>
          <p:cNvGrpSpPr/>
          <p:nvPr/>
        </p:nvGrpSpPr>
        <p:grpSpPr>
          <a:xfrm>
            <a:off x="0" y="0"/>
            <a:ext cx="2490840" cy="909720"/>
            <a:chOff x="0" y="0"/>
            <a:chExt cx="2490840" cy="909720"/>
          </a:xfrm>
        </p:grpSpPr>
        <p:pic>
          <p:nvPicPr>
            <p:cNvPr id="103" name="9 Imagen" descr="Nuevo Logo.tif"/>
            <p:cNvPicPr/>
            <p:nvPr/>
          </p:nvPicPr>
          <p:blipFill>
            <a:blip r:embed="rId3"/>
            <a:srcRect l="0" t="0" r="34882" b="0"/>
            <a:stretch/>
          </p:blipFill>
          <p:spPr>
            <a:xfrm>
              <a:off x="0" y="0"/>
              <a:ext cx="204336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10 Rectángulo"/>
            <p:cNvSpPr/>
            <p:nvPr/>
          </p:nvSpPr>
          <p:spPr>
            <a:xfrm>
              <a:off x="2016360" y="0"/>
              <a:ext cx="474480" cy="90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21 Rectángulo"/>
          <p:cNvSpPr/>
          <p:nvPr/>
        </p:nvSpPr>
        <p:spPr>
          <a:xfrm>
            <a:off x="263520" y="3940200"/>
            <a:ext cx="2227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ntegrating OpenEMR and Pentaho Reporting &amp; BI Too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4" descr=""/>
          <p:cNvPicPr/>
          <p:nvPr/>
        </p:nvPicPr>
        <p:blipFill>
          <a:blip r:embed="rId4"/>
          <a:stretch/>
        </p:blipFill>
        <p:spPr>
          <a:xfrm>
            <a:off x="3659040" y="2735280"/>
            <a:ext cx="4491360" cy="2752560"/>
          </a:xfrm>
          <a:prstGeom prst="rect">
            <a:avLst/>
          </a:prstGeom>
          <a:ln w="0">
            <a:noFill/>
          </a:ln>
        </p:spPr>
      </p:pic>
      <p:pic>
        <p:nvPicPr>
          <p:cNvPr id="107" name="5 Imagen" descr="OpenEMR logo.gif"/>
          <p:cNvPicPr/>
          <p:nvPr/>
        </p:nvPicPr>
        <p:blipFill>
          <a:blip r:embed="rId5"/>
          <a:stretch/>
        </p:blipFill>
        <p:spPr>
          <a:xfrm>
            <a:off x="3659040" y="5327640"/>
            <a:ext cx="450720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72960" y="-66960"/>
            <a:ext cx="708336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000" spc="-1" strike="noStrike">
              <a:solidFill>
                <a:srgbClr val="16246d"/>
              </a:solidFill>
              <a:latin typeface="Arial Narrow"/>
            </a:endParaRPr>
          </a:p>
        </p:txBody>
      </p:sp>
      <p:sp>
        <p:nvSpPr>
          <p:cNvPr id="189" name="3 CuadroTexto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solidFill>
            <a:srgbClr val="00a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8 Rectángulo"/>
          <p:cNvSpPr/>
          <p:nvPr/>
        </p:nvSpPr>
        <p:spPr>
          <a:xfrm>
            <a:off x="628560" y="617400"/>
            <a:ext cx="79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uestion: Can we have certain important consistency check. For eg.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 there children accepting VSC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18 Rectángulo"/>
          <p:cNvSpPr/>
          <p:nvPr/>
        </p:nvSpPr>
        <p:spPr>
          <a:xfrm>
            <a:off x="628560" y="1712880"/>
            <a:ext cx="64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THIRD STEP: CUSTOMIZE SELECTIONS  - Defining Constra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1" descr=""/>
          <p:cNvPicPr/>
          <p:nvPr/>
        </p:nvPicPr>
        <p:blipFill>
          <a:blip r:embed="rId1"/>
          <a:stretch/>
        </p:blipFill>
        <p:spPr>
          <a:xfrm>
            <a:off x="665280" y="2224080"/>
            <a:ext cx="2189160" cy="1084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"/>
          <p:cNvPicPr/>
          <p:nvPr/>
        </p:nvPicPr>
        <p:blipFill>
          <a:blip r:embed="rId2"/>
          <a:stretch/>
        </p:blipFill>
        <p:spPr>
          <a:xfrm>
            <a:off x="299880" y="3940200"/>
            <a:ext cx="3213360" cy="1170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"/>
          <p:cNvPicPr/>
          <p:nvPr/>
        </p:nvPicPr>
        <p:blipFill>
          <a:blip r:embed="rId3"/>
          <a:stretch/>
        </p:blipFill>
        <p:spPr>
          <a:xfrm>
            <a:off x="227160" y="5692680"/>
            <a:ext cx="3402000" cy="255600"/>
          </a:xfrm>
          <a:prstGeom prst="rect">
            <a:avLst/>
          </a:prstGeom>
          <a:ln w="0">
            <a:noFill/>
          </a:ln>
        </p:spPr>
      </p:pic>
      <p:sp>
        <p:nvSpPr>
          <p:cNvPr id="195" name="17 Rectángulo"/>
          <p:cNvSpPr/>
          <p:nvPr/>
        </p:nvSpPr>
        <p:spPr>
          <a:xfrm>
            <a:off x="5959440" y="2662200"/>
            <a:ext cx="28116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Reports can be redesigned and reused by changing key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72960" y="-66960"/>
            <a:ext cx="708336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000" spc="-1" strike="noStrike">
              <a:solidFill>
                <a:srgbClr val="16246d"/>
              </a:solidFill>
              <a:latin typeface="Arial Narrow"/>
            </a:endParaRPr>
          </a:p>
        </p:txBody>
      </p:sp>
      <p:sp>
        <p:nvSpPr>
          <p:cNvPr id="197" name="3 CuadroTexto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solidFill>
            <a:srgbClr val="00a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8 Rectángulo"/>
          <p:cNvSpPr/>
          <p:nvPr/>
        </p:nvSpPr>
        <p:spPr>
          <a:xfrm>
            <a:off x="628560" y="617400"/>
            <a:ext cx="79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MPLE  Question: Can we have certain important consistency check. For eg.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le client undergoing abor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18 Rectángulo"/>
          <p:cNvSpPr/>
          <p:nvPr/>
        </p:nvSpPr>
        <p:spPr>
          <a:xfrm>
            <a:off x="628560" y="1712880"/>
            <a:ext cx="64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FOURTH STEP: REPORT SETTINGS – Report titles and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774720" y="4998960"/>
            <a:ext cx="2154240" cy="1201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3294000" y="5546880"/>
            <a:ext cx="2324160" cy="685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701640" y="2077920"/>
            <a:ext cx="2693880" cy="1314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"/>
          <p:cNvPicPr/>
          <p:nvPr/>
        </p:nvPicPr>
        <p:blipFill>
          <a:blip r:embed="rId4"/>
          <a:stretch/>
        </p:blipFill>
        <p:spPr>
          <a:xfrm>
            <a:off x="701640" y="3611520"/>
            <a:ext cx="2901960" cy="839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5"/>
          <a:stretch/>
        </p:blipFill>
        <p:spPr>
          <a:xfrm>
            <a:off x="2709720" y="4232160"/>
            <a:ext cx="912960" cy="582840"/>
          </a:xfrm>
          <a:prstGeom prst="rect">
            <a:avLst/>
          </a:prstGeom>
          <a:ln w="0">
            <a:noFill/>
          </a:ln>
        </p:spPr>
      </p:pic>
      <p:sp>
        <p:nvSpPr>
          <p:cNvPr id="205" name="17 Rectángulo"/>
          <p:cNvSpPr/>
          <p:nvPr/>
        </p:nvSpPr>
        <p:spPr>
          <a:xfrm>
            <a:off x="5959440" y="2662200"/>
            <a:ext cx="281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Reports can be exported to more generic data forma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3 CuadroTexto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solidFill>
            <a:srgbClr val="00a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18 Rectángulo"/>
          <p:cNvSpPr/>
          <p:nvPr/>
        </p:nvSpPr>
        <p:spPr>
          <a:xfrm>
            <a:off x="738360" y="581040"/>
            <a:ext cx="78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SC Services by Sex and Age (Younger than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8" descr=""/>
          <p:cNvPicPr/>
          <p:nvPr/>
        </p:nvPicPr>
        <p:blipFill>
          <a:blip r:embed="rId1"/>
          <a:srcRect l="24969" t="15653" r="0" b="0"/>
          <a:stretch/>
        </p:blipFill>
        <p:spPr>
          <a:xfrm>
            <a:off x="1103400" y="1547640"/>
            <a:ext cx="731340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3 CuadroTexto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solidFill>
            <a:srgbClr val="00a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18 Rectángulo"/>
          <p:cNvSpPr/>
          <p:nvPr/>
        </p:nvSpPr>
        <p:spPr>
          <a:xfrm>
            <a:off x="738360" y="581040"/>
            <a:ext cx="78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sistency Check: Child accepting V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10 Rectángulo"/>
          <p:cNvSpPr/>
          <p:nvPr/>
        </p:nvSpPr>
        <p:spPr>
          <a:xfrm>
            <a:off x="5923080" y="2041560"/>
            <a:ext cx="237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: real data Possible error in D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9 Imagen" descr="OpenEMR - 12 year old with VSC.jpg"/>
          <p:cNvPicPr/>
          <p:nvPr/>
        </p:nvPicPr>
        <p:blipFill>
          <a:blip r:embed="rId1"/>
          <a:stretch/>
        </p:blipFill>
        <p:spPr>
          <a:xfrm>
            <a:off x="372960" y="3575160"/>
            <a:ext cx="5075280" cy="2925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rcRect l="0" t="0" r="0" b="35704"/>
          <a:stretch/>
        </p:blipFill>
        <p:spPr>
          <a:xfrm>
            <a:off x="372960" y="1092240"/>
            <a:ext cx="5097600" cy="2117520"/>
          </a:xfrm>
          <a:prstGeom prst="rect">
            <a:avLst/>
          </a:prstGeom>
          <a:ln w="0">
            <a:noFill/>
          </a:ln>
        </p:spPr>
      </p:pic>
      <p:sp>
        <p:nvSpPr>
          <p:cNvPr id="214" name="13 Rectángulo"/>
          <p:cNvSpPr/>
          <p:nvPr/>
        </p:nvSpPr>
        <p:spPr>
          <a:xfrm>
            <a:off x="5996160" y="4853160"/>
            <a:ext cx="237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rifying client data in OpenEMR (Internal 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72960" y="-66960"/>
            <a:ext cx="708336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000" spc="-1" strike="noStrike">
              <a:solidFill>
                <a:srgbClr val="16246d"/>
              </a:solidFill>
              <a:latin typeface="Arial Narrow"/>
            </a:endParaRPr>
          </a:p>
        </p:txBody>
      </p:sp>
      <p:sp>
        <p:nvSpPr>
          <p:cNvPr id="216" name="3 CuadroTexto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solidFill>
            <a:srgbClr val="00a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18 Rectángulo"/>
          <p:cNvSpPr/>
          <p:nvPr/>
        </p:nvSpPr>
        <p:spPr>
          <a:xfrm>
            <a:off x="738360" y="581040"/>
            <a:ext cx="78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port Requested: Services by client attrib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13 Rectángulo"/>
          <p:cNvSpPr/>
          <p:nvPr/>
        </p:nvSpPr>
        <p:spPr>
          <a:xfrm>
            <a:off x="774720" y="5802480"/>
            <a:ext cx="70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ditional benefit: Detecting missing key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12 Imagen" descr="09 - Outcomes - Missing Data- Clients with no RegDate Marital Status Ethnoracial etc.jpg"/>
          <p:cNvPicPr/>
          <p:nvPr/>
        </p:nvPicPr>
        <p:blipFill>
          <a:blip r:embed="rId1"/>
          <a:stretch/>
        </p:blipFill>
        <p:spPr>
          <a:xfrm>
            <a:off x="993600" y="1238400"/>
            <a:ext cx="65725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3 CuadroTexto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solidFill>
            <a:srgbClr val="00a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18 Rectángulo"/>
          <p:cNvSpPr/>
          <p:nvPr/>
        </p:nvSpPr>
        <p:spPr>
          <a:xfrm>
            <a:off x="738360" y="581040"/>
            <a:ext cx="78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13 Rectángulo"/>
          <p:cNvSpPr/>
          <p:nvPr/>
        </p:nvSpPr>
        <p:spPr>
          <a:xfrm>
            <a:off x="482760" y="1494000"/>
            <a:ext cx="81057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is not possible or sustainable to solve all reporting needs with canned reports o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d ho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rogram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fferent users and data needs include corporate or institutional managers, Project/Clinic managers, evaluator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ation efforts are essential, and commitment should be enforced across the instit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at different levels of the organization need to be given the knowledge and tools to understand and get advantage of their 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s there experience or interest on OpenEMR + Pentaho or similar effor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3 CuadroTexto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solidFill>
            <a:srgbClr val="00a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18 Rectángulo"/>
          <p:cNvSpPr/>
          <p:nvPr/>
        </p:nvSpPr>
        <p:spPr>
          <a:xfrm>
            <a:off x="5156280" y="800280"/>
            <a:ext cx="303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ponding to Member Associations reporting and analytical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9 Rectángulo"/>
          <p:cNvSpPr/>
          <p:nvPr/>
        </p:nvSpPr>
        <p:spPr>
          <a:xfrm>
            <a:off x="1066680" y="3794040"/>
            <a:ext cx="752184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general, MAs have both at  HQ and clinic levels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y specific information needs not covered by OpenEMR or other similar clinic systems with predefined repo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--This led us to look for more flexible reporting o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11 Imagen" descr="Kokate-in-PSK.jpg"/>
          <p:cNvPicPr/>
          <p:nvPr/>
        </p:nvPicPr>
        <p:blipFill>
          <a:blip r:embed="rId1"/>
          <a:stretch/>
        </p:blipFill>
        <p:spPr>
          <a:xfrm>
            <a:off x="811080" y="727200"/>
            <a:ext cx="374832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2960" y="-66960"/>
            <a:ext cx="708336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000" spc="-1" strike="noStrike">
              <a:solidFill>
                <a:srgbClr val="16246d"/>
              </a:solidFill>
              <a:latin typeface="Arial Narrow"/>
            </a:endParaRPr>
          </a:p>
        </p:txBody>
      </p:sp>
      <p:sp>
        <p:nvSpPr>
          <p:cNvPr id="113" name="3 CuadroTexto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solidFill>
            <a:srgbClr val="00a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11 Rectángulo"/>
          <p:cNvSpPr/>
          <p:nvPr/>
        </p:nvSpPr>
        <p:spPr>
          <a:xfrm>
            <a:off x="372960" y="3100320"/>
            <a:ext cx="40165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THER is an open-source platform, designed to create a solution for the use of mobile devices for data collection, analysis and repor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de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ntah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BI/Reporting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18 Rectángulo"/>
          <p:cNvSpPr/>
          <p:nvPr/>
        </p:nvSpPr>
        <p:spPr>
          <a:xfrm>
            <a:off x="3075120" y="1494000"/>
            <a:ext cx="60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Mobile Technology Project: G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2" descr=""/>
          <p:cNvPicPr/>
          <p:nvPr/>
        </p:nvPicPr>
        <p:blipFill>
          <a:blip r:embed="rId1"/>
          <a:stretch/>
        </p:blipFill>
        <p:spPr>
          <a:xfrm>
            <a:off x="4681440" y="2187720"/>
            <a:ext cx="3838680" cy="3019320"/>
          </a:xfrm>
          <a:prstGeom prst="rect">
            <a:avLst/>
          </a:prstGeom>
          <a:ln w="0">
            <a:noFill/>
          </a:ln>
        </p:spPr>
      </p:pic>
      <p:sp>
        <p:nvSpPr>
          <p:cNvPr id="117" name="6 Rectángulo"/>
          <p:cNvSpPr/>
          <p:nvPr/>
        </p:nvSpPr>
        <p:spPr>
          <a:xfrm>
            <a:off x="394200" y="76356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 projects in IPPF had similar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2960" y="0"/>
            <a:ext cx="7083360" cy="1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16246d"/>
                </a:solidFill>
                <a:latin typeface="Arial Narrow"/>
              </a:rPr>
              <a:t>b</a:t>
            </a:r>
            <a:endParaRPr b="1" lang="en-US" sz="1000" spc="-1" strike="noStrike">
              <a:solidFill>
                <a:srgbClr val="005172"/>
              </a:solidFill>
              <a:latin typeface="Arial Narrow"/>
            </a:endParaRPr>
          </a:p>
        </p:txBody>
      </p:sp>
      <p:sp>
        <p:nvSpPr>
          <p:cNvPr id="119" name="3 CuadroTexto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solidFill>
            <a:srgbClr val="00a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18 Rectángulo"/>
          <p:cNvSpPr/>
          <p:nvPr/>
        </p:nvSpPr>
        <p:spPr>
          <a:xfrm>
            <a:off x="227160" y="544680"/>
            <a:ext cx="86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enEMR and Pentaho basic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-69840" y="123480"/>
            <a:ext cx="305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3 major </a:t>
            </a:r>
            <a:r>
              <a:rPr b="1" lang="en-US" sz="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mplementation work areas</a:t>
            </a:r>
            <a:r>
              <a:rPr b="0" lang="en-US" sz="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are being considered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800" y="4615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50 Grupo"/>
          <p:cNvGrpSpPr/>
          <p:nvPr/>
        </p:nvGrpSpPr>
        <p:grpSpPr>
          <a:xfrm>
            <a:off x="3476520" y="1165320"/>
            <a:ext cx="2446560" cy="584280"/>
            <a:chOff x="3476520" y="1165320"/>
            <a:chExt cx="2446560" cy="584280"/>
          </a:xfrm>
        </p:grpSpPr>
        <p:sp>
          <p:nvSpPr>
            <p:cNvPr id="124" name="16 Rectángulo"/>
            <p:cNvSpPr/>
            <p:nvPr/>
          </p:nvSpPr>
          <p:spPr>
            <a:xfrm>
              <a:off x="3476520" y="1165320"/>
              <a:ext cx="2446560" cy="584280"/>
            </a:xfrm>
            <a:prstGeom prst="rect">
              <a:avLst/>
            </a:prstGeom>
            <a:solidFill>
              <a:srgbClr val="b0e8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5" name="5 Imagen" descr="OpenEMR logo.gif"/>
            <p:cNvPicPr/>
            <p:nvPr/>
          </p:nvPicPr>
          <p:blipFill>
            <a:blip r:embed="rId1"/>
            <a:stretch/>
          </p:blipFill>
          <p:spPr>
            <a:xfrm>
              <a:off x="3622320" y="1274760"/>
              <a:ext cx="2190960" cy="39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15 Rectángulo"/>
          <p:cNvSpPr/>
          <p:nvPr/>
        </p:nvSpPr>
        <p:spPr>
          <a:xfrm>
            <a:off x="482760" y="4689360"/>
            <a:ext cx="1715760" cy="912960"/>
          </a:xfrm>
          <a:prstGeom prst="rect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31 Grupo"/>
          <p:cNvGrpSpPr/>
          <p:nvPr/>
        </p:nvGrpSpPr>
        <p:grpSpPr>
          <a:xfrm>
            <a:off x="1541520" y="2114640"/>
            <a:ext cx="1789200" cy="657000"/>
            <a:chOff x="1541520" y="2114640"/>
            <a:chExt cx="1789200" cy="657000"/>
          </a:xfrm>
        </p:grpSpPr>
        <p:sp>
          <p:nvSpPr>
            <p:cNvPr id="128" name="12 Almacenamiento de acceso directo"/>
            <p:cNvSpPr/>
            <p:nvPr/>
          </p:nvSpPr>
          <p:spPr>
            <a:xfrm>
              <a:off x="1541520" y="2114640"/>
              <a:ext cx="1789200" cy="657000"/>
            </a:xfrm>
            <a:prstGeom prst="flowChartMagneticDrum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17 CuadroTexto"/>
            <p:cNvSpPr/>
            <p:nvPr/>
          </p:nvSpPr>
          <p:spPr>
            <a:xfrm>
              <a:off x="1797120" y="2297160"/>
              <a:ext cx="91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ySQ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18 CuadroTexto"/>
          <p:cNvSpPr/>
          <p:nvPr/>
        </p:nvSpPr>
        <p:spPr>
          <a:xfrm>
            <a:off x="957240" y="4925880"/>
            <a:ext cx="9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69 Grupo"/>
          <p:cNvGrpSpPr/>
          <p:nvPr/>
        </p:nvGrpSpPr>
        <p:grpSpPr>
          <a:xfrm>
            <a:off x="2928960" y="4049640"/>
            <a:ext cx="1716120" cy="2190960"/>
            <a:chOff x="2928960" y="4049640"/>
            <a:chExt cx="1716120" cy="2190960"/>
          </a:xfrm>
        </p:grpSpPr>
        <p:sp>
          <p:nvSpPr>
            <p:cNvPr id="132" name="19 Rectángulo"/>
            <p:cNvSpPr/>
            <p:nvPr/>
          </p:nvSpPr>
          <p:spPr>
            <a:xfrm>
              <a:off x="2928960" y="4049640"/>
              <a:ext cx="1716120" cy="21909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20 CuadroTexto"/>
            <p:cNvSpPr/>
            <p:nvPr/>
          </p:nvSpPr>
          <p:spPr>
            <a:xfrm>
              <a:off x="3074760" y="4393800"/>
              <a:ext cx="138744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tadata Model build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_________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usiness Vie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21 Rectángulo"/>
          <p:cNvSpPr/>
          <p:nvPr/>
        </p:nvSpPr>
        <p:spPr>
          <a:xfrm>
            <a:off x="5010120" y="4268880"/>
            <a:ext cx="1716120" cy="912600"/>
          </a:xfrm>
          <a:prstGeom prst="rect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22 CuadroTexto"/>
          <p:cNvSpPr/>
          <p:nvPr/>
        </p:nvSpPr>
        <p:spPr>
          <a:xfrm>
            <a:off x="5175360" y="4378320"/>
            <a:ext cx="138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porting Eng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23 Rectángulo"/>
          <p:cNvSpPr/>
          <p:nvPr/>
        </p:nvSpPr>
        <p:spPr>
          <a:xfrm>
            <a:off x="5010120" y="5327640"/>
            <a:ext cx="1716120" cy="912960"/>
          </a:xfrm>
          <a:prstGeom prst="rect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25 CuadroTexto"/>
          <p:cNvSpPr/>
          <p:nvPr/>
        </p:nvSpPr>
        <p:spPr>
          <a:xfrm>
            <a:off x="5302080" y="5510160"/>
            <a:ext cx="113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ysis serv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27 Rectángulo"/>
          <p:cNvSpPr/>
          <p:nvPr/>
        </p:nvSpPr>
        <p:spPr>
          <a:xfrm>
            <a:off x="2709720" y="3830760"/>
            <a:ext cx="6280200" cy="262872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29 CuadroTexto"/>
          <p:cNvSpPr/>
          <p:nvPr/>
        </p:nvSpPr>
        <p:spPr>
          <a:xfrm>
            <a:off x="7273800" y="5692680"/>
            <a:ext cx="16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r Conso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30 CuadroTexto"/>
          <p:cNvSpPr/>
          <p:nvPr/>
        </p:nvSpPr>
        <p:spPr>
          <a:xfrm>
            <a:off x="4754520" y="3867120"/>
            <a:ext cx="317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ntaho BI Platform /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35 Conector angular"/>
          <p:cNvCxnSpPr>
            <a:endCxn id="126" idx="0"/>
          </p:cNvCxnSpPr>
          <p:nvPr/>
        </p:nvCxnSpPr>
        <p:spPr>
          <a:xfrm rot="5400000">
            <a:off x="1010880" y="3136680"/>
            <a:ext cx="1881720" cy="122472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round/>
            <a:headEnd len="med" type="arrow" w="med"/>
            <a:tailEnd len="med" type="arrow" w="med"/>
          </a:ln>
        </p:spPr>
      </p:cxnSp>
      <p:cxnSp>
        <p:nvCxnSpPr>
          <p:cNvPr id="142" name="71 Conector recto de flecha"/>
          <p:cNvCxnSpPr>
            <a:stCxn id="126" idx="3"/>
          </p:cNvCxnSpPr>
          <p:nvPr/>
        </p:nvCxnSpPr>
        <p:spPr>
          <a:xfrm>
            <a:off x="2198160" y="5144760"/>
            <a:ext cx="73116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143" name="Picture 24" descr=""/>
          <p:cNvPicPr/>
          <p:nvPr/>
        </p:nvPicPr>
        <p:blipFill>
          <a:blip r:embed="rId2"/>
          <a:stretch/>
        </p:blipFill>
        <p:spPr>
          <a:xfrm>
            <a:off x="7273800" y="4665600"/>
            <a:ext cx="1568520" cy="960480"/>
          </a:xfrm>
          <a:prstGeom prst="rect">
            <a:avLst/>
          </a:prstGeom>
          <a:ln w="0">
            <a:noFill/>
          </a:ln>
        </p:spPr>
      </p:pic>
      <p:sp>
        <p:nvSpPr>
          <p:cNvPr id="144" name="35 Conector recto"/>
          <p:cNvSpPr/>
          <p:nvPr/>
        </p:nvSpPr>
        <p:spPr>
          <a:xfrm flipV="1">
            <a:off x="154080" y="3246120"/>
            <a:ext cx="8799480" cy="7308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18 Rectángulo"/>
          <p:cNvSpPr/>
          <p:nvPr/>
        </p:nvSpPr>
        <p:spPr>
          <a:xfrm>
            <a:off x="7383600" y="2844720"/>
            <a:ext cx="156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penEM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entah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52 Forma"/>
          <p:cNvCxnSpPr>
            <a:stCxn id="124" idx="2"/>
            <a:endCxn id="128" idx="0"/>
          </p:cNvCxnSpPr>
          <p:nvPr/>
        </p:nvCxnSpPr>
        <p:spPr>
          <a:xfrm rot="5400000">
            <a:off x="3384000" y="800280"/>
            <a:ext cx="365760" cy="2264400"/>
          </a:xfrm>
          <a:prstGeom prst="bentConnector3">
            <a:avLst>
              <a:gd name="adj1" fmla="val 49950"/>
            </a:avLst>
          </a:prstGeom>
          <a:ln w="2844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47" name="32 Conector angular"/>
          <p:cNvCxnSpPr>
            <a:endCxn id="136" idx="1"/>
          </p:cNvCxnSpPr>
          <p:nvPr/>
        </p:nvCxnSpPr>
        <p:spPr>
          <a:xfrm>
            <a:off x="4645080" y="5144760"/>
            <a:ext cx="365760" cy="640440"/>
          </a:xfrm>
          <a:prstGeom prst="bentConnector3">
            <a:avLst>
              <a:gd name="adj1" fmla="val 49950"/>
            </a:avLst>
          </a:prstGeom>
          <a:ln w="2844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48" name="33 Conector angular"/>
          <p:cNvCxnSpPr>
            <a:endCxn id="134" idx="1"/>
          </p:cNvCxnSpPr>
          <p:nvPr/>
        </p:nvCxnSpPr>
        <p:spPr>
          <a:xfrm flipV="1">
            <a:off x="4645080" y="4725720"/>
            <a:ext cx="365760" cy="419760"/>
          </a:xfrm>
          <a:prstGeom prst="bentConnector3">
            <a:avLst>
              <a:gd name="adj1" fmla="val 49950"/>
            </a:avLst>
          </a:prstGeom>
          <a:ln w="2844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49" name="39 Conector angular"/>
          <p:cNvCxnSpPr>
            <a:stCxn id="134" idx="3"/>
          </p:cNvCxnSpPr>
          <p:nvPr/>
        </p:nvCxnSpPr>
        <p:spPr>
          <a:xfrm>
            <a:off x="6725880" y="4726080"/>
            <a:ext cx="548280" cy="42120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50" name="43 Conector angular"/>
          <p:cNvCxnSpPr>
            <a:stCxn id="136" idx="3"/>
          </p:cNvCxnSpPr>
          <p:nvPr/>
        </p:nvCxnSpPr>
        <p:spPr>
          <a:xfrm flipV="1">
            <a:off x="6725880" y="5145840"/>
            <a:ext cx="548280" cy="63900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151" name="29 CuadroTexto"/>
          <p:cNvSpPr/>
          <p:nvPr/>
        </p:nvSpPr>
        <p:spPr>
          <a:xfrm>
            <a:off x="7091280" y="60580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min Conso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2960" y="-66960"/>
            <a:ext cx="708336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000" spc="-1" strike="noStrike">
              <a:solidFill>
                <a:srgbClr val="16246d"/>
              </a:solidFill>
              <a:latin typeface="Arial Narrow"/>
            </a:endParaRPr>
          </a:p>
        </p:txBody>
      </p:sp>
      <p:sp>
        <p:nvSpPr>
          <p:cNvPr id="153" name="3 CuadroTexto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solidFill>
            <a:srgbClr val="00a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628560" y="690480"/>
            <a:ext cx="85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ntaho implementation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I Platform ‘the tip of the iceberg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6 Diagrama" descr=""/>
          <p:cNvPicPr/>
          <p:nvPr/>
        </p:nvPicPr>
        <p:blipFill>
          <a:blip r:embed="rId1"/>
          <a:stretch/>
        </p:blipFill>
        <p:spPr>
          <a:xfrm>
            <a:off x="476280" y="901800"/>
            <a:ext cx="5381640" cy="5151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4" descr=""/>
          <p:cNvPicPr/>
          <p:nvPr/>
        </p:nvPicPr>
        <p:blipFill>
          <a:blip r:embed="rId2"/>
          <a:stretch/>
        </p:blipFill>
        <p:spPr>
          <a:xfrm>
            <a:off x="6068880" y="3063960"/>
            <a:ext cx="259092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2960" y="-66960"/>
            <a:ext cx="708336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000" spc="-1" strike="noStrike">
              <a:solidFill>
                <a:srgbClr val="16246d"/>
              </a:solidFill>
              <a:latin typeface="Arial Narrow"/>
            </a:endParaRPr>
          </a:p>
        </p:txBody>
      </p:sp>
      <p:sp>
        <p:nvSpPr>
          <p:cNvPr id="158" name="3 CuadroTexto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solidFill>
            <a:srgbClr val="00a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8 Rectángulo"/>
          <p:cNvSpPr/>
          <p:nvPr/>
        </p:nvSpPr>
        <p:spPr>
          <a:xfrm>
            <a:off x="372960" y="471600"/>
            <a:ext cx="82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MPLE  Question: Can we have certain important consistency checks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g. are there children accepting VSC? o is my data comple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10" descr=""/>
          <p:cNvPicPr/>
          <p:nvPr/>
        </p:nvPicPr>
        <p:blipFill>
          <a:blip r:embed="rId1"/>
          <a:stretch/>
        </p:blipFill>
        <p:spPr>
          <a:xfrm>
            <a:off x="1650960" y="1749600"/>
            <a:ext cx="2246400" cy="1058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"/>
          <p:cNvPicPr/>
          <p:nvPr/>
        </p:nvPicPr>
        <p:blipFill>
          <a:blip r:embed="rId2"/>
          <a:stretch/>
        </p:blipFill>
        <p:spPr>
          <a:xfrm>
            <a:off x="4608360" y="1569960"/>
            <a:ext cx="1020960" cy="1417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"/>
          <p:cNvPicPr/>
          <p:nvPr/>
        </p:nvPicPr>
        <p:blipFill>
          <a:blip r:embed="rId3"/>
          <a:stretch/>
        </p:blipFill>
        <p:spPr>
          <a:xfrm>
            <a:off x="6507000" y="1566720"/>
            <a:ext cx="1027440" cy="1424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"/>
          <p:cNvPicPr/>
          <p:nvPr/>
        </p:nvPicPr>
        <p:blipFill>
          <a:blip r:embed="rId4"/>
          <a:stretch/>
        </p:blipFill>
        <p:spPr>
          <a:xfrm>
            <a:off x="2563920" y="3648240"/>
            <a:ext cx="4208400" cy="2519280"/>
          </a:xfrm>
          <a:prstGeom prst="rect">
            <a:avLst/>
          </a:prstGeom>
          <a:ln w="0">
            <a:noFill/>
          </a:ln>
        </p:spPr>
      </p:pic>
      <p:sp>
        <p:nvSpPr>
          <p:cNvPr id="164" name="13 Flecha a la derecha con bandas"/>
          <p:cNvSpPr/>
          <p:nvPr/>
        </p:nvSpPr>
        <p:spPr>
          <a:xfrm>
            <a:off x="4133880" y="2114640"/>
            <a:ext cx="365040" cy="328680"/>
          </a:xfrm>
          <a:prstGeom prst="pie">
            <a:avLst/>
          </a:prstGeom>
          <a:solidFill>
            <a:srgbClr val="00a9e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14 Flecha a la derecha con bandas"/>
          <p:cNvSpPr/>
          <p:nvPr/>
        </p:nvSpPr>
        <p:spPr>
          <a:xfrm>
            <a:off x="5776920" y="2114640"/>
            <a:ext cx="365040" cy="328680"/>
          </a:xfrm>
          <a:prstGeom prst="pie">
            <a:avLst/>
          </a:prstGeom>
          <a:solidFill>
            <a:srgbClr val="00a9e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15 Flecha a la derecha con bandas"/>
          <p:cNvSpPr/>
          <p:nvPr/>
        </p:nvSpPr>
        <p:spPr>
          <a:xfrm rot="5400000">
            <a:off x="2800800" y="4250520"/>
            <a:ext cx="365400" cy="328320"/>
          </a:xfrm>
          <a:prstGeom prst="pie">
            <a:avLst/>
          </a:prstGeom>
          <a:solidFill>
            <a:srgbClr val="00a9e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16 Rectángulo"/>
          <p:cNvSpPr/>
          <p:nvPr/>
        </p:nvSpPr>
        <p:spPr>
          <a:xfrm>
            <a:off x="3987720" y="5291280"/>
            <a:ext cx="657360" cy="255600"/>
          </a:xfrm>
          <a:prstGeom prst="rect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72960" y="-66960"/>
            <a:ext cx="708336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000" spc="-1" strike="noStrike">
              <a:solidFill>
                <a:srgbClr val="16246d"/>
              </a:solidFill>
              <a:latin typeface="Arial Narrow"/>
            </a:endParaRPr>
          </a:p>
        </p:txBody>
      </p:sp>
      <p:sp>
        <p:nvSpPr>
          <p:cNvPr id="169" name="3 CuadroTexto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solidFill>
            <a:srgbClr val="00a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8 Rectángulo"/>
          <p:cNvSpPr/>
          <p:nvPr/>
        </p:nvSpPr>
        <p:spPr>
          <a:xfrm>
            <a:off x="628560" y="617400"/>
            <a:ext cx="79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uestion: Can we have certain important consistency check. eg.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re there children accepting VSC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7 Rectángulo"/>
          <p:cNvSpPr/>
          <p:nvPr/>
        </p:nvSpPr>
        <p:spPr>
          <a:xfrm>
            <a:off x="5959440" y="2662200"/>
            <a:ext cx="28116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Technical staff creates “business models” according to end-user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18 Rectángulo"/>
          <p:cNvSpPr/>
          <p:nvPr/>
        </p:nvSpPr>
        <p:spPr>
          <a:xfrm>
            <a:off x="628560" y="1712880"/>
            <a:ext cx="55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FIRST STEP: SELECT DATA 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701640" y="2114640"/>
            <a:ext cx="49150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2960" y="-66960"/>
            <a:ext cx="708336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000" spc="-1" strike="noStrike">
              <a:solidFill>
                <a:srgbClr val="16246d"/>
              </a:solidFill>
              <a:latin typeface="Arial Narrow"/>
            </a:endParaRPr>
          </a:p>
        </p:txBody>
      </p:sp>
      <p:sp>
        <p:nvSpPr>
          <p:cNvPr id="175" name="3 CuadroTexto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solidFill>
            <a:srgbClr val="00a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8 Rectángulo"/>
          <p:cNvSpPr/>
          <p:nvPr/>
        </p:nvSpPr>
        <p:spPr>
          <a:xfrm>
            <a:off x="628560" y="617400"/>
            <a:ext cx="79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uestion: Can we have certain important consistency check. For eg.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 there children accepting VSC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18 Rectángulo"/>
          <p:cNvSpPr/>
          <p:nvPr/>
        </p:nvSpPr>
        <p:spPr>
          <a:xfrm>
            <a:off x="628560" y="1712880"/>
            <a:ext cx="55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ECOND STEP: MAKE SELE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154080" y="2333520"/>
            <a:ext cx="5516640" cy="3286080"/>
          </a:xfrm>
          <a:prstGeom prst="rect">
            <a:avLst/>
          </a:prstGeom>
          <a:ln w="0">
            <a:noFill/>
          </a:ln>
        </p:spPr>
      </p:pic>
      <p:sp>
        <p:nvSpPr>
          <p:cNvPr id="179" name="17 Rectángulo"/>
          <p:cNvSpPr/>
          <p:nvPr/>
        </p:nvSpPr>
        <p:spPr>
          <a:xfrm>
            <a:off x="5959440" y="2662200"/>
            <a:ext cx="2811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Program managers, Evaluators and Clinic managers are trained on how to identify and select appropriate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72960" y="-66960"/>
            <a:ext cx="708336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000" spc="-1" strike="noStrike">
              <a:solidFill>
                <a:srgbClr val="16246d"/>
              </a:solidFill>
              <a:latin typeface="Arial Narrow"/>
            </a:endParaRPr>
          </a:p>
        </p:txBody>
      </p:sp>
      <p:sp>
        <p:nvSpPr>
          <p:cNvPr id="181" name="3 CuadroTexto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solidFill>
            <a:srgbClr val="00a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8 Rectángulo"/>
          <p:cNvSpPr/>
          <p:nvPr/>
        </p:nvSpPr>
        <p:spPr>
          <a:xfrm>
            <a:off x="628560" y="617400"/>
            <a:ext cx="79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uestion: Can we have certain important consistency check. For eg.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 there children accepting VSC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18 Rectángulo"/>
          <p:cNvSpPr/>
          <p:nvPr/>
        </p:nvSpPr>
        <p:spPr>
          <a:xfrm>
            <a:off x="628560" y="1712880"/>
            <a:ext cx="803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THIRD STEP: CUSTOMIZE SELECTIONS – Defining Formatting, Sort, Calculatio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738360" y="2077920"/>
            <a:ext cx="1541160" cy="1378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2"/>
          <a:stretch/>
        </p:blipFill>
        <p:spPr>
          <a:xfrm>
            <a:off x="738360" y="5072040"/>
            <a:ext cx="2993760" cy="1515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"/>
          <p:cNvPicPr/>
          <p:nvPr/>
        </p:nvPicPr>
        <p:blipFill>
          <a:blip r:embed="rId3"/>
          <a:stretch/>
        </p:blipFill>
        <p:spPr>
          <a:xfrm>
            <a:off x="738360" y="3538440"/>
            <a:ext cx="3170160" cy="1387440"/>
          </a:xfrm>
          <a:prstGeom prst="rect">
            <a:avLst/>
          </a:prstGeom>
          <a:ln w="0">
            <a:noFill/>
          </a:ln>
        </p:spPr>
      </p:pic>
      <p:sp>
        <p:nvSpPr>
          <p:cNvPr id="187" name="17 Rectángulo"/>
          <p:cNvSpPr/>
          <p:nvPr/>
        </p:nvSpPr>
        <p:spPr>
          <a:xfrm>
            <a:off x="5959440" y="2662200"/>
            <a:ext cx="28116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This approach allows flexible report design and production by non-technical sta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21:23:13Z</dcterms:created>
  <dc:creator>Xavier</dc:creator>
  <dc:description/>
  <dc:language>en-US</dc:language>
  <cp:lastModifiedBy>Xavier</cp:lastModifiedBy>
  <dcterms:modified xsi:type="dcterms:W3CDTF">2010-09-29T13:41:12Z</dcterms:modified>
  <cp:revision>1756</cp:revision>
  <dc:subject/>
  <dc:title>Annual Reports 2005</dc:title>
</cp:coreProperties>
</file>